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A78-BFCD-4F15-8E3C-4D1EE710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0AC-F8FD-4527-9574-0AD696A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EA4-EBF6-400B-8902-27C24B9B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092-048F-433B-B600-B0295C99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25F-3E4D-47A8-B1FC-0539EE30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CC6-BD74-4817-B0AD-C55B88C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A9F1-B4F8-4D97-8239-C5C5E4F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EF4-D46B-48BA-9BDC-7E4AC60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B947-6DE8-47F6-8063-95DB5C1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C0D5-1339-4D78-BE1D-C3C749C2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FBA-028F-40E9-9ACF-823839B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81C-DF23-47E2-AB75-546E928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45E6-948E-4E3F-918C-3DF6D39F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793-B631-467C-93CE-C23A923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23FA-BA6F-4A50-B9ED-25D9F289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19C-830E-43D0-95ED-DD5F38C3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829-8995-4886-AE39-70964258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2AAF-8E82-44E8-A9ED-26B526FC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765C-BA2A-4742-91DB-7E8062D8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71BB-21D9-4A96-B23E-9F398B4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1D15-6B36-4760-BE02-F004590D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7E22-CDDE-4E85-BE84-2AAAE389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526-93D7-41A2-AA58-7C944B3B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E522-F802-41AF-A6E3-4D69794F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2DDA-D66F-4061-87AE-4098BAB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BCE9-D8A2-4A09-B857-AFDEA35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31A2-440A-47F2-A2A8-3DF447A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9EF1-9332-49B5-A29E-E5F98E4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577C-899D-4B77-A605-C69B722F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0FE2-2C01-4753-A4D8-E0462698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C6A3-8526-46DD-AF1A-03DDEA4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A634-4046-4282-AF4C-1B530F9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9676-4EC8-486F-B6D4-106B6C1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DB7-AC3A-4B6F-A724-5406911B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FE56-E814-487A-929E-93C2F2D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50CF-A37A-49D8-B4CB-B944932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35AB-C227-4016-AA92-F4DACB66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1593-557A-40B5-AB09-C42AF8B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AB9C-94C3-4DA2-930A-C2E40CB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E5B1-7DE7-46FE-9A0E-F0A99AE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B1F0-70FB-4A0D-A2A5-50CD43C2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D82C-BDF6-496B-8962-B1FFC987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B6EE-C535-4B9B-B890-1E37C514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D5E6-5A3B-4A0E-B5ED-12B58C1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779-EE33-486D-89CE-A448A0DD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CC22-4CE1-42EF-BD09-A564A11A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B789-2F1E-4BC5-A878-639CAB54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266A-4631-4F99-A4E3-300BA3E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9F73-3FDB-452E-B921-37F44D4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1763-3897-44CB-ABDF-FA54DCE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05E6-98F6-4F47-9ABA-C974C35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B6D7-B7F0-47B1-92FD-819B9F9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3A41-1C7E-4D70-B6E5-33DBA6D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DF930-435F-4DC2-93D5-613C6935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DF10-1316-4486-A116-029FE722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3BD-B8DE-47DF-825F-DA207456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74E1-9650-4C86-90A0-73169270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D78-2603-4C0F-8BB6-9CCEFB9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F52-F021-4E35-86D8-009FE8D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64B-37CE-4664-9136-A100540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330-D6BE-4602-A794-871537DE42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B9F-BF0F-4941-8493-384B332B7B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360-1F02-49AE-8FE2-8CA5DC0FDB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D27-EE3C-4C8D-8344-EE1FA33678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409-181C-4BFC-ACF3-51FFB139E1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8d3e"/>
                </a:solidFill>
                <a:latin typeface="Verdana"/>
              </a:rPr>
              <a:t>Діяльність Української гельсінської спілки</a:t>
            </a:r>
            <a:r>
              <a:rPr b="1" lang="uk-UA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Дата утворенн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</a:rPr>
              <a:t>Листопад 1976 року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ff8d3e"/>
                </a:solidFill>
                <a:latin typeface="Verdana"/>
              </a:rPr>
              <a:t>Лідер: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24360" y="1413000"/>
            <a:ext cx="4921200" cy="468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100" spc="-1" strike="noStrike">
                <a:solidFill>
                  <a:srgbClr val="000000"/>
                </a:solidFill>
                <a:latin typeface="Verdana"/>
              </a:rPr>
              <a:t>Микола Руденко </a:t>
            </a: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8d3e"/>
                </a:solidFill>
                <a:latin typeface="Verdana"/>
              </a:rPr>
              <a:t>Учасники: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Левко Лук’яненко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Іван Кандиба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Павло Григоренко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Методи боротьб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Verdana"/>
              </a:rPr>
              <a:t>Легальні (у межах радянської конституції та підписаних СРСР міжнародних угод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Мета та діяльніс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8920" y="1197000"/>
            <a:ext cx="8666280" cy="54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оротьба за дотримання прав людин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Досягнення суверенітету Україн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оротьба за звільнення політв’язні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Ліквідація цензур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творення меморандумів, звернень до світової спільноти з приводу порушень прав людини в СРС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ання списків політв’язнів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Реакція влади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</a:rPr>
              <a:t>Переслідування й репресії (із 37 членів 23 засуджені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8:45:13Z</dcterms:created>
  <dc:creator>Customer</dc:creator>
  <dc:description/>
  <dc:language>en-US</dc:language>
  <cp:lastModifiedBy>vital</cp:lastModifiedBy>
  <dcterms:modified xsi:type="dcterms:W3CDTF">2016-01-17T06:19:18Z</dcterms:modified>
  <cp:revision>3</cp:revision>
  <dc:subject/>
  <dc:title>Слайд 1</dc:title>
</cp:coreProperties>
</file>